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FCDC3-CD0A-4DB9-B0C0-57EB3438C4D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3321E-9F94-40E2-A607-2D768383331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掌握：</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呋噻米、氢氯噻嗪、螺内酯的作用特点、机制、临床应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呋噻米、氢氯噻嗪、螺内酯的主要不良反应及药疗监护须知。</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熟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利尿药物按利尿效能和作用部位的分类及其主要利尿机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氨苯蝶啶作用特点、利尿机制、临床应用、不良反应。</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了解：</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zh-CN" sz="1200" spc="-1" strike="noStrike">
                <a:solidFill>
                  <a:srgbClr val="000000"/>
                </a:solidFill>
                <a:latin typeface="Calibri"/>
                <a:ea typeface="宋体"/>
              </a:rPr>
              <a:t>常用脱水药（又称渗透性利尿药）甘露醇、山梨醇和高渗葡萄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的作用特点、临床应用和不良反应。</a:t>
            </a:r>
            <a:endParaRPr b="0" lang="en-US" sz="1200" spc="-1" strike="noStrike">
              <a:solidFill>
                <a:srgbClr val="000000"/>
              </a:solidFill>
              <a:latin typeface="Calibri"/>
            </a:endParaRPr>
          </a:p>
        </p:txBody>
      </p:sp>
      <p:sp>
        <p:nvSpPr>
          <p:cNvPr id="1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2DDEA-5125-4A37-970B-882FC52A3B4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DA44E-7A31-47DE-B90D-63CAB251D0E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4613F-786E-4DC5-AAE2-E2D381EF112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9BFD2-60AE-42DC-B42A-CC4896038BA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4E620-E643-43B7-BBDB-3CEAB92EE63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4E459-933F-4D04-AD89-4620580B2E9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FEF37-58FD-4FC8-9A91-F491BCBAC7E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FB706-1D65-48D7-B789-C969C554036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D89A5-B591-4E31-8D5E-A397FFA3D6B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9F382-535B-477A-A346-63EAD9E57A4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8ECBA9-BED7-427D-8961-7E6EE82116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4E21D5F-6A50-4C85-86AE-415FA5FF14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7E9C33A-BA42-44A3-9231-1D0144DE19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342BD81-B115-4CD0-B91A-C152854B5B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96F0DA-4CB3-4620-AF97-60D3F8BDAA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151F1EB-DDF9-451C-82A5-AA95584AF9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D138739-A28E-4949-AC39-0A916E5165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3AD98A6-8BAC-47C1-860D-89ACF949F5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015AC86-084D-41A9-893B-6BD2E534FD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628598-D1F2-4C47-AA5F-D6E5C611B7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64EFE6-1A9D-4F28-BC9E-EC72C4B4B1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97F109-89FA-42D8-9ABE-A4320E1A14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C050E-11CA-496C-96A9-287AC557FE5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一章</a:t>
            </a:r>
            <a:br>
              <a:rPr sz="4800"/>
            </a:b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氢氯噻嗪（</a:t>
            </a:r>
            <a:r>
              <a:rPr b="1" lang="en-US" sz="3200" spc="-1" strike="noStrike">
                <a:solidFill>
                  <a:srgbClr val="8ac8de"/>
                </a:solidFill>
                <a:latin typeface="Times New Roman"/>
                <a:ea typeface="华文新魏"/>
              </a:rPr>
              <a:t>hydrochlorothiazide</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1"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4"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螺内酯（</a:t>
            </a:r>
            <a:r>
              <a:rPr b="1" lang="en-US" sz="3200" spc="-1" strike="noStrike">
                <a:solidFill>
                  <a:srgbClr val="8ac8de"/>
                </a:solidFill>
                <a:latin typeface="Times New Roman"/>
                <a:ea typeface="华文新魏"/>
              </a:rPr>
              <a:t>spironolactone</a:t>
            </a:r>
            <a:r>
              <a:rPr b="1" lang="zh-CN" sz="3200" spc="-1" strike="noStrike">
                <a:solidFill>
                  <a:srgbClr val="8ac8de"/>
                </a:solidFill>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50"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副作用，停药后自行消失</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脱水药是一类能迅速提高血浆渗透压，使组织脱水的药物，因有渗透性利尿作用，又称为渗透性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共同特性</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注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甘露醇（</a:t>
            </a:r>
            <a:r>
              <a:rPr b="1" lang="en-US" sz="3200" spc="-1" strike="noStrike">
                <a:solidFill>
                  <a:srgbClr val="8ac8de"/>
                </a:solidFill>
                <a:latin typeface="Times New Roman"/>
                <a:ea typeface="华文新魏"/>
              </a:rPr>
              <a:t>mannitol</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功能衰竭</a:t>
            </a:r>
            <a:endParaRPr b="0" lang="en-US" sz="2800" spc="-1" strike="noStrike">
              <a:solidFill>
                <a:srgbClr val="046ca6"/>
              </a:solidFill>
              <a:latin typeface="Arial"/>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5"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注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滴，严禁作肌肉或皮下注射</a:t>
            </a:r>
            <a:endParaRPr b="0" lang="en-US" sz="24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13"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的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下列利尿作用最强的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布美他尼</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乙酰唑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常用于治疗原发性高血压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螺内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1"/>
          <p:cNvSpPr/>
          <p:nvPr/>
        </p:nvSpPr>
        <p:spPr>
          <a:xfrm>
            <a:off x="611280" y="1413000"/>
            <a:ext cx="813744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因慢性心力衰竭服用呋塞米治疗，近期因感染需应用抗</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生素治疗，因合用易增强耳毒性，需要避免应用的一类抗生素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林可霉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 .β</a:t>
            </a:r>
            <a:r>
              <a:rPr b="0" lang="zh-CN" sz="2800" spc="-1" strike="noStrike">
                <a:solidFill>
                  <a:srgbClr val="046ca6"/>
                </a:solidFill>
                <a:latin typeface="华文新魏"/>
                <a:ea typeface="华文新魏"/>
              </a:rPr>
              <a:t>内酰胺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四环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基糖苷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霉素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使房水生成减少，治疗青光眼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苯蝶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与醛固酮竞争拮抗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呋塞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圆角矩形 1"/>
          <p:cNvSpPr/>
          <p:nvPr/>
        </p:nvSpPr>
        <p:spPr>
          <a:xfrm>
            <a:off x="611280" y="1413000"/>
            <a:ext cx="799308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0</a:t>
            </a:r>
            <a:r>
              <a:rPr b="0" lang="zh-CN" sz="2800" spc="-1" strike="noStrike">
                <a:solidFill>
                  <a:srgbClr val="046ca6"/>
                </a:solidFill>
                <a:latin typeface="华文新魏"/>
                <a:ea typeface="华文新魏"/>
              </a:rPr>
              <a:t>岁，因慢性心力衰竭入院治疗。入院后查血电解质发现血钾明显升高，为避免进一步引起血钾升高，应避免应用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布美他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16" name=""/>
          <p:cNvSpPr txBox="1"/>
          <p:nvPr/>
        </p:nvSpPr>
        <p:spPr>
          <a:xfrm>
            <a:off x="304920" y="1267920"/>
            <a:ext cx="8610480" cy="5256360"/>
          </a:xfrm>
          <a:prstGeom prst="rect">
            <a:avLst/>
          </a:prstGeom>
          <a:noFill/>
          <a:ln w="0">
            <a:noFill/>
          </a:ln>
        </p:spPr>
        <p:txBody>
          <a:bodyPr anchor="t">
            <a:norm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        </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8" name="圆角矩形 1"/>
          <p:cNvSpPr/>
          <p:nvPr/>
        </p:nvSpPr>
        <p:spPr>
          <a:xfrm>
            <a:off x="395280" y="1484280"/>
            <a:ext cx="8209080" cy="4969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6</a:t>
            </a:r>
            <a:r>
              <a:rPr b="0" lang="zh-CN" sz="2800" spc="-1" strike="noStrike">
                <a:solidFill>
                  <a:srgbClr val="046ca6"/>
                </a:solidFill>
                <a:latin typeface="华文新魏"/>
                <a:ea typeface="华文新魏"/>
              </a:rPr>
              <a:t>岁，主因端坐呼吸，双下肢水肿，以“慢性心力衰竭急性加重”收入院。</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入院后医嘱给予地高辛、卡托普利、呋塞米治疗，</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后上述症状逐渐缓解。</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主诉乏力明显，走路不稳，整个人没有精神，急查血电解质示：血钾</a:t>
            </a:r>
            <a:r>
              <a:rPr b="0" lang="en-US" sz="2800" spc="-1" strike="noStrike">
                <a:solidFill>
                  <a:srgbClr val="046ca6"/>
                </a:solidFill>
                <a:latin typeface="华文新魏"/>
                <a:ea typeface="华文新魏"/>
              </a:rPr>
              <a:t>3.3mmol/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出现乏力、行走不稳等症状的原因是什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此时患者最主要的问题是什么？应采取哪些护理措施应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6"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ac8de"/>
                </a:solidFill>
                <a:latin typeface="Times New Roman"/>
                <a:ea typeface="华文新魏"/>
              </a:rPr>
              <a:t>呋塞米（</a:t>
            </a:r>
            <a:r>
              <a:rPr b="0" lang="en-US" sz="3200" spc="-1" strike="noStrike">
                <a:solidFill>
                  <a:srgbClr val="8ac8de"/>
                </a:solidFill>
                <a:latin typeface="Times New Roman"/>
                <a:ea typeface="华文新魏"/>
              </a:rPr>
              <a:t>furosemide</a:t>
            </a:r>
            <a:r>
              <a:rPr b="0" lang="zh-CN" sz="3200" spc="-1" strike="noStrike">
                <a:solidFill>
                  <a:srgbClr val="8ac8de"/>
                </a:solidFill>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9"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他利尿药无效的严重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2" name=""/>
          <p:cNvSpPr txBox="1"/>
          <p:nvPr/>
        </p:nvSpPr>
        <p:spPr>
          <a:xfrm>
            <a:off x="324000" y="1052640"/>
            <a:ext cx="8610480" cy="48765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a:t>
            </a:r>
            <a:r>
              <a:rPr b="0" lang="en-US" sz="2600" spc="-1" strike="noStrike">
                <a:solidFill>
                  <a:srgbClr val="046ca6"/>
                </a:solidFill>
                <a:latin typeface="Times New Roman"/>
                <a:ea typeface="华文新魏"/>
              </a:rPr>
              <a:t>:</a:t>
            </a:r>
            <a:r>
              <a:rPr b="0" lang="zh-CN" sz="2600" spc="-1" strike="noStrike">
                <a:solidFill>
                  <a:srgbClr val="046ca6"/>
                </a:solidFill>
                <a:latin typeface="Times New Roman"/>
                <a:ea typeface="华文新魏"/>
              </a:rPr>
              <a:t>恶心、呕吐、腹胀、上腹痛、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作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5"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性脑病，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他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注可产生疼痛，能自行消失</a:t>
            </a:r>
            <a:endParaRPr b="0" lang="en-US" sz="24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3:32:5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